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B27521-2321-4BCD-A897-9E6341EE6C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C3F7E0-9F17-4453-A699-5685409C0A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ABA22D-F192-4C04-8201-F5659FB211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6FEAF4-7BC1-4444-8060-28CDB22619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93640AA-70BF-46C8-83B8-8E507A216F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September  19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E89FE8-3A4C-4828-916F-A1E00FCC6AD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09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. Schu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7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1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W-LAN;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-GPS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 varia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/ SD card slot (enabling W-LA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 /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-Option (via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-GPS varia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8480" y="5118120"/>
            <a:ext cx="4152960" cy="351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0 end of September not possible (Softw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44792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4792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360" y="4064040"/>
            <a:ext cx="72748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Mainly due to unclear SW-Situation we have to identify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Szenarios to avoid further delay and to bring NEO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Siemens-Mitarbeiter</cp:lastModifiedBy>
  <cp:lastPrinted>2002-11-05T09:45:05Z</cp:lastPrinted>
  <dcterms:modified xsi:type="dcterms:W3CDTF">2003-09-18T17:27:55Z</dcterms:modified>
  <cp:revision>529</cp:revision>
  <dc:subject/>
  <dc:title>Template Project Status Review</dc:title>
</cp:coreProperties>
</file>